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27.jpeg" ContentType="image/jpeg"/>
  <Override PartName="/ppt/media/image6.jpeg" ContentType="image/jpeg"/>
  <Override PartName="/ppt/media/image29.jpeg" ContentType="image/jpeg"/>
  <Override PartName="/ppt/media/image8.jpeg" ContentType="image/jpeg"/>
  <Override PartName="/ppt/media/image11.gif" ContentType="image/gif"/>
  <Override PartName="/ppt/media/image10.jpeg" ContentType="image/jpeg"/>
  <Override PartName="/ppt/media/image14.png" ContentType="image/png"/>
  <Override PartName="/ppt/media/image28.jpeg" ContentType="image/jpeg"/>
  <Override PartName="/ppt/media/image7.jpeg" ContentType="image/jpeg"/>
  <Override PartName="/ppt/media/image34.jpeg" ContentType="image/jpeg"/>
  <Override PartName="/ppt/media/image2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3.png" ContentType="image/png"/>
  <Override PartName="/ppt/media/image5.jpeg" ContentType="image/jpeg"/>
  <Override PartName="/ppt/media/image26.jpeg" ContentType="image/jpeg"/>
  <Override PartName="/ppt/media/image13.gif" ContentType="image/gif"/>
  <Override PartName="/ppt/media/image1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9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0778-AB4E-4988-AC64-249E3F619EE1}" type="slidenum">
              <a:rPr b="1" lang="zh-CN" sz="1200" spc="-1" strike="noStrike">
                <a:solidFill>
                  <a:srgbClr val="ff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E00C-E8B9-42BA-860B-F41133C8D6AF}" type="slidenum"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8FF1-7ECB-4712-BD7B-2732A9566DB1}" type="slidenum"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C897-9CEE-470E-B9F4-6F76A66926CB}" type="slidenum"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6EA1-9C2C-432F-8DE1-9F729B74E3AD}" type="slidenum"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93A2-383A-48F4-954C-7F7416FB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6291-65F3-4D5A-A6E3-E0FDA7E2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42AD-6753-406C-960E-DAA9422BB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8BA7-E01B-4FFD-9AF8-F538B38AC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D3A2-9275-4189-B3F0-A71F03CC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FD02-C101-4108-81C6-F8AA0D56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6888-4A0F-48DD-BA9E-A08DECB3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AC2B-B318-456E-B3DE-E99F543E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9516-BAC8-484D-A6AC-3EE8DD67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9DB2-B79C-4BDD-9550-9D8DD3AC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CACD-371D-4C75-A5AD-254FD5E9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EA42-A77C-4B5F-A78A-EC721122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E71D-C629-4F57-A3A6-4795A90F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A2B9-087C-4D64-BE1E-256E2BFD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FC50-57F2-44D7-94CA-564C5B8C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7262-DEBE-45E1-BB37-E66472274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6FB9-EA56-4511-87EE-DE814EAE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0C86-A43C-4707-9E5C-295EDDB6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733E-986B-4511-99AC-A0EF4B21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AD2E-35F3-498D-8E13-29FB56F5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6171-E2EA-48C0-93F3-ACE1CFEB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63D1-D9B4-4AA3-BB4A-81A3D267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8B02-BBA2-4BBA-8D2D-436FF632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1D42-7341-4A3E-9C45-873C6583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187D-87CF-40C2-A1DD-9D2F98B5C1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DB15-16F1-4C5A-BBD1-E30A239D71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7" descr="小木偶的故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4"/>
          <p:cNvSpPr/>
          <p:nvPr/>
        </p:nvSpPr>
        <p:spPr>
          <a:xfrm>
            <a:off x="324000" y="2133720"/>
            <a:ext cx="44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37620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468360" y="692280"/>
            <a:ext cx="251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93" name="Text Box 21"/>
          <p:cNvSpPr/>
          <p:nvPr/>
        </p:nvSpPr>
        <p:spPr>
          <a:xfrm>
            <a:off x="2103480" y="13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94" name="Text Box 23"/>
          <p:cNvSpPr/>
          <p:nvPr/>
        </p:nvSpPr>
        <p:spPr>
          <a:xfrm>
            <a:off x="950760" y="112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95" name="Text Box 25"/>
          <p:cNvSpPr/>
          <p:nvPr/>
        </p:nvSpPr>
        <p:spPr>
          <a:xfrm>
            <a:off x="663480" y="62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96" name="Text Box 30"/>
          <p:cNvSpPr/>
          <p:nvPr/>
        </p:nvSpPr>
        <p:spPr>
          <a:xfrm>
            <a:off x="2967120" y="162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97" name="WordArt 36" descr=""/>
          <p:cNvPicPr/>
          <p:nvPr/>
        </p:nvPicPr>
        <p:blipFill>
          <a:blip r:embed="rId2"/>
          <a:stretch/>
        </p:blipFill>
        <p:spPr>
          <a:xfrm>
            <a:off x="317520" y="901800"/>
            <a:ext cx="745488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8" descr="2009817224826591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Oval 4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学习词语</a:t>
            </a: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0" y="1413000"/>
            <a:ext cx="8839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</a:rPr>
              <a:t>神奇  增添  笑嘻嘻  愣住</a:t>
            </a:r>
            <a:endParaRPr b="1" lang="en-US" sz="5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</a:rPr>
              <a:t>拽住  撒谎  毛茸茸  委屈</a:t>
            </a:r>
            <a:endParaRPr b="1" lang="en-US" sz="5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</a:rPr>
              <a:t>愤怒  温柔  龇牙咧嘴 厉害</a:t>
            </a:r>
            <a:endParaRPr b="1" lang="en-US" sz="5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</a:rPr>
              <a:t>可怜  魔杖  </a:t>
            </a:r>
            <a:endParaRPr b="1" lang="en-US" sz="5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1" descr="2009817224826591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Oval 2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认识生字</a:t>
            </a: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539640" y="1981080"/>
            <a:ext cx="835344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楷体_GB2312"/>
              </a:rPr>
              <a:t>拽住   毛茸茸  一副 </a:t>
            </a:r>
            <a:endParaRPr b="1" lang="en-US" sz="66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楷体_GB2312"/>
              </a:rPr>
              <a:t>可怜  魔 杖   </a:t>
            </a:r>
            <a:endParaRPr b="1" lang="en-US" sz="66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468360" y="1557360"/>
            <a:ext cx="333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zhuài</a:t>
            </a:r>
            <a:endParaRPr b="1" lang="en-US" sz="4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4500720" y="1557360"/>
            <a:ext cx="19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róng</a:t>
            </a:r>
            <a:endParaRPr b="1" lang="en-US" sz="4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7956720" y="1628640"/>
            <a:ext cx="166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fù</a:t>
            </a:r>
            <a:endParaRPr b="1" lang="en-US" sz="4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1403280" y="4581360"/>
            <a:ext cx="166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lián</a:t>
            </a:r>
            <a:endParaRPr b="1" lang="en-US" sz="4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132000" y="4581360"/>
            <a:ext cx="138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mó</a:t>
            </a:r>
            <a:endParaRPr b="1" lang="en-US" sz="4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4211640" y="4653000"/>
            <a:ext cx="235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zhàng</a:t>
            </a:r>
            <a:endParaRPr b="1" lang="en-US" sz="40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6" descr="2009817224826591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143580385620242483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5" descr="2009817224826591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250920" y="1341360"/>
            <a:ext cx="77724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楷体_GB2312"/>
              </a:rPr>
              <a:t>神奇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—</a:t>
            </a:r>
            <a:r>
              <a:rPr b="1" lang="zh-CN" sz="5400" spc="-1" strike="noStrike">
                <a:solidFill>
                  <a:srgbClr val="3333cc"/>
                </a:solidFill>
                <a:latin typeface="楷体_GB2312"/>
              </a:rPr>
              <a:t>（      ）  </a:t>
            </a:r>
            <a:endParaRPr b="1" lang="en-US" sz="5400" spc="-1" strike="noStrike">
              <a:solidFill>
                <a:srgbClr val="ff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楷体_GB2312"/>
              </a:rPr>
              <a:t>热闹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—</a:t>
            </a:r>
            <a:r>
              <a:rPr b="1" lang="zh-CN" sz="5400" spc="-1" strike="noStrike">
                <a:solidFill>
                  <a:srgbClr val="3333cc"/>
                </a:solidFill>
                <a:latin typeface="楷体_GB2312"/>
              </a:rPr>
              <a:t>（      ）</a:t>
            </a:r>
            <a:endParaRPr b="1" lang="en-US" sz="5400" spc="-1" strike="noStrike">
              <a:solidFill>
                <a:srgbClr val="ff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楷体_GB2312"/>
              </a:rPr>
              <a:t>愤怒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—</a:t>
            </a:r>
            <a:r>
              <a:rPr b="1" lang="zh-CN" sz="5400" spc="-1" strike="noStrike">
                <a:solidFill>
                  <a:srgbClr val="3333cc"/>
                </a:solidFill>
                <a:latin typeface="楷体_GB2312"/>
              </a:rPr>
              <a:t>（      ）     </a:t>
            </a:r>
            <a:endParaRPr b="1" lang="en-US" sz="5400" spc="-1" strike="noStrike">
              <a:solidFill>
                <a:srgbClr val="ff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楷体_GB2312"/>
              </a:rPr>
              <a:t>灵活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—</a:t>
            </a:r>
            <a:r>
              <a:rPr b="1" lang="zh-CN" sz="5400" spc="-1" strike="noStrike">
                <a:solidFill>
                  <a:srgbClr val="3333cc"/>
                </a:solidFill>
                <a:latin typeface="楷体_GB2312"/>
              </a:rPr>
              <a:t>（      ）</a:t>
            </a:r>
            <a:endParaRPr b="1" lang="en-US" sz="5400" spc="-1" strike="noStrike">
              <a:solidFill>
                <a:srgbClr val="ff0066"/>
              </a:solidFill>
              <a:latin typeface="Times New Roman"/>
            </a:endParaRPr>
          </a:p>
        </p:txBody>
      </p:sp>
      <p:grpSp>
        <p:nvGrpSpPr>
          <p:cNvPr id="143" name="Group 19"/>
          <p:cNvGrpSpPr/>
          <p:nvPr/>
        </p:nvGrpSpPr>
        <p:grpSpPr>
          <a:xfrm>
            <a:off x="2411280" y="-171360"/>
            <a:ext cx="3744720" cy="1391760"/>
            <a:chOff x="2411280" y="-171360"/>
            <a:chExt cx="3744720" cy="1391760"/>
          </a:xfrm>
        </p:grpSpPr>
        <p:sp>
          <p:nvSpPr>
            <p:cNvPr id="144" name="Oval 5"/>
            <p:cNvSpPr/>
            <p:nvPr/>
          </p:nvSpPr>
          <p:spPr>
            <a:xfrm>
              <a:off x="2411280" y="-171360"/>
              <a:ext cx="3105720" cy="1391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45" name="Text Box 6"/>
            <p:cNvSpPr/>
            <p:nvPr/>
          </p:nvSpPr>
          <p:spPr>
            <a:xfrm>
              <a:off x="2776680" y="27360"/>
              <a:ext cx="337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66"/>
                  </a:solidFill>
                  <a:latin typeface="Times New Roman"/>
                </a:rPr>
                <a:t>近义词</a:t>
              </a:r>
              <a:endParaRPr b="1" lang="en-US" sz="60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sp>
        <p:nvSpPr>
          <p:cNvPr id="146" name="Text Box 8"/>
          <p:cNvSpPr/>
          <p:nvPr/>
        </p:nvSpPr>
        <p:spPr>
          <a:xfrm>
            <a:off x="3276720" y="1268280"/>
            <a:ext cx="307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楷体_GB2312"/>
              </a:rPr>
              <a:t>神秘</a:t>
            </a:r>
            <a:endParaRPr b="1" lang="en-US" sz="5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3203640" y="3789360"/>
            <a:ext cx="242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楷体_GB2312"/>
              </a:rPr>
              <a:t>愤恨</a:t>
            </a:r>
            <a:endParaRPr b="1" lang="en-US" sz="5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3348000" y="2492280"/>
            <a:ext cx="212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楷体_GB2312"/>
              </a:rPr>
              <a:t>喧闹</a:t>
            </a:r>
            <a:endParaRPr b="1" lang="en-US" sz="5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179280" y="5943600"/>
            <a:ext cx="813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楷体_GB2312"/>
              </a:rPr>
              <a:t>重要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—</a:t>
            </a:r>
            <a:r>
              <a:rPr b="1" lang="zh-CN" sz="5400" spc="-1" strike="noStrike">
                <a:solidFill>
                  <a:srgbClr val="3333cc"/>
                </a:solidFill>
                <a:latin typeface="楷体_GB2312"/>
              </a:rPr>
              <a:t>（      ）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5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3492360" y="594360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楷体_GB2312"/>
              </a:rPr>
              <a:t>重大</a:t>
            </a:r>
            <a:endParaRPr b="1" lang="en-US" sz="5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51" name="Text Box 21"/>
          <p:cNvSpPr/>
          <p:nvPr/>
        </p:nvSpPr>
        <p:spPr>
          <a:xfrm>
            <a:off x="3348000" y="501336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Times New Roman"/>
              </a:rPr>
              <a:t>敏捷</a:t>
            </a:r>
            <a:endParaRPr b="1" lang="en-US" sz="5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7308720" y="3429000"/>
            <a:ext cx="146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53" name="Text Box 23"/>
          <p:cNvSpPr/>
          <p:nvPr/>
        </p:nvSpPr>
        <p:spPr>
          <a:xfrm>
            <a:off x="2319480" y="3860640"/>
            <a:ext cx="9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2320920" y="387972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8" descr="2009817224826591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2"/>
          <p:cNvSpPr/>
          <p:nvPr/>
        </p:nvSpPr>
        <p:spPr>
          <a:xfrm>
            <a:off x="0" y="1639800"/>
            <a:ext cx="777240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_GB2312"/>
              </a:rPr>
              <a:t>愤怒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—</a:t>
            </a:r>
            <a:r>
              <a:rPr b="1" lang="en-US" sz="4800" spc="-1" strike="noStrike">
                <a:solidFill>
                  <a:srgbClr val="3333cc"/>
                </a:solidFill>
                <a:latin typeface="楷体_GB2312"/>
              </a:rPr>
              <a:t> 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</a:rPr>
              <a:t>（        ）   </a:t>
            </a: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_GB2312"/>
              </a:rPr>
              <a:t>撒谎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—</a:t>
            </a:r>
            <a:r>
              <a:rPr b="1" lang="en-US" sz="4800" spc="-1" strike="noStrike">
                <a:solidFill>
                  <a:srgbClr val="3333cc"/>
                </a:solidFill>
                <a:latin typeface="楷体_GB2312"/>
              </a:rPr>
              <a:t> 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</a:rPr>
              <a:t>（        ）</a:t>
            </a: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_GB2312"/>
              </a:rPr>
              <a:t>灵活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—</a:t>
            </a:r>
            <a:r>
              <a:rPr b="1" lang="en-US" sz="4800" spc="-1" strike="noStrike">
                <a:solidFill>
                  <a:srgbClr val="3333cc"/>
                </a:solidFill>
                <a:latin typeface="楷体_GB2312"/>
              </a:rPr>
              <a:t> 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</a:rPr>
              <a:t>（         ）</a:t>
            </a: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_GB2312"/>
              </a:rPr>
              <a:t>重要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—</a:t>
            </a:r>
            <a:r>
              <a:rPr b="1" lang="en-US" sz="4800" spc="-1" strike="noStrike">
                <a:solidFill>
                  <a:srgbClr val="3333cc"/>
                </a:solidFill>
                <a:latin typeface="楷体_GB2312"/>
              </a:rPr>
              <a:t> 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</a:rPr>
              <a:t>（         ）</a:t>
            </a: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grpSp>
        <p:nvGrpSpPr>
          <p:cNvPr id="157" name="Group 3"/>
          <p:cNvGrpSpPr/>
          <p:nvPr/>
        </p:nvGrpSpPr>
        <p:grpSpPr>
          <a:xfrm>
            <a:off x="0" y="0"/>
            <a:ext cx="5194080" cy="1288800"/>
            <a:chOff x="0" y="0"/>
            <a:chExt cx="5194080" cy="1288800"/>
          </a:xfrm>
        </p:grpSpPr>
        <p:sp>
          <p:nvSpPr>
            <p:cNvPr id="158" name="Oval 4"/>
            <p:cNvSpPr/>
            <p:nvPr/>
          </p:nvSpPr>
          <p:spPr>
            <a:xfrm>
              <a:off x="0" y="0"/>
              <a:ext cx="4307400" cy="1288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59" name="Text Box 5"/>
            <p:cNvSpPr/>
            <p:nvPr/>
          </p:nvSpPr>
          <p:spPr>
            <a:xfrm>
              <a:off x="506880" y="183960"/>
              <a:ext cx="4687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cc6600"/>
                  </a:solidFill>
                  <a:latin typeface="Times New Roman"/>
                </a:rPr>
                <a:t>反义词</a:t>
              </a:r>
              <a:endParaRPr b="1" lang="en-US" sz="60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sp>
        <p:nvSpPr>
          <p:cNvPr id="160" name="Text Box 6"/>
          <p:cNvSpPr/>
          <p:nvPr/>
        </p:nvSpPr>
        <p:spPr>
          <a:xfrm>
            <a:off x="2987640" y="1700280"/>
            <a:ext cx="388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楷体_GB2312"/>
              </a:rPr>
              <a:t>愉快</a:t>
            </a:r>
            <a:endParaRPr b="1" lang="en-US" sz="6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2987640" y="2708280"/>
            <a:ext cx="305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楷体_GB2312"/>
              </a:rPr>
              <a:t>诚实</a:t>
            </a:r>
            <a:endParaRPr b="1" lang="en-US" sz="6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539640" y="3500280"/>
            <a:ext cx="8139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楷体_GB2312"/>
              </a:rPr>
              <a:t>   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2987640" y="5805360"/>
            <a:ext cx="249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2987640" y="4797360"/>
            <a:ext cx="338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</a:rPr>
              <a:t>呆板</a:t>
            </a:r>
            <a:endParaRPr b="1" lang="en-US" sz="6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3059280" y="5851440"/>
            <a:ext cx="286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</a:rPr>
              <a:t>次要</a:t>
            </a:r>
            <a:endParaRPr b="1" lang="en-US" sz="60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kwy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343440" y="1628640"/>
            <a:ext cx="882180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宋体"/>
              </a:rPr>
              <a:t>板着脸    笑嘻嘻    亲热   </a:t>
            </a:r>
            <a:endParaRPr b="1" lang="en-US" sz="5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宋体"/>
              </a:rPr>
              <a:t>楞住      愤怒      委屈   </a:t>
            </a:r>
            <a:endParaRPr b="1" lang="en-US" sz="5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宋体"/>
              </a:rPr>
              <a:t>温柔      龇牙咧嘴  痛苦  </a:t>
            </a:r>
            <a:endParaRPr b="1" lang="en-US" sz="5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宋体"/>
              </a:rPr>
              <a:t>嘟嘟囔囔  可怜巴巴  </a:t>
            </a:r>
            <a:endParaRPr b="1" lang="en-US" sz="5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宋体"/>
              </a:rPr>
              <a:t>伤心      放声大哭  生气   </a:t>
            </a:r>
            <a:endParaRPr b="1" lang="en-US" sz="5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宋体"/>
              </a:rPr>
              <a:t>着急</a:t>
            </a:r>
            <a:endParaRPr b="1" lang="en-US" sz="5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68" name="WordArt 4"/>
          <p:cNvSpPr txBox="1"/>
          <p:nvPr/>
        </p:nvSpPr>
        <p:spPr>
          <a:xfrm>
            <a:off x="395280" y="333360"/>
            <a:ext cx="3319560" cy="103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7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关于表情的词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2009817224826591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>
            <a:off x="-38160" y="1523880"/>
            <a:ext cx="900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在小木偶的身上发生了一件什么事？</a:t>
            </a: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0" y="3213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小木偶遇到一系列挫折时，心里会想些什么？</a:t>
            </a: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0" y="501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课文的最后一段话是什么意思？说说你自己的体会。</a:t>
            </a: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53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交流感悟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611280" y="148428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喜欢哪部分，小组分角色朗读，然后再分角色表演。</a:t>
            </a:r>
            <a:endParaRPr b="1" lang="en-US" sz="40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611280" y="177336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嘿！小木偶！你的红背包真漂亮，让我背一下好吗？就背一下。我想看看这种红和我的毛色是不是相配。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7704000" y="5805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好的。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pic_1149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1403280" y="2133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吵什么？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4983480" y="1268280"/>
            <a:ext cx="146016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报告警官，他抢我的包！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4788000" y="1484280"/>
            <a:ext cx="33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那是我的，我的，我的！小木偶尖叫。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250920" y="836640"/>
            <a:ext cx="70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穿警服的熊看看小红狐，小红狐满脸的愤怒；再看看小木偶，小木偶一副笑嘻嘻的表情。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4572000" y="2565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放开！放开！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2009817224826591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11976680"/>
          <p:cNvPicPr/>
          <p:nvPr/>
        </p:nvPicPr>
        <p:blipFill>
          <a:blip r:embed="rId2"/>
          <a:stretch/>
        </p:blipFill>
        <p:spPr>
          <a:xfrm>
            <a:off x="4572000" y="2897280"/>
            <a:ext cx="4572000" cy="3960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images"/>
          <p:cNvPicPr/>
          <p:nvPr/>
        </p:nvPicPr>
        <p:blipFill>
          <a:blip r:embed="rId3"/>
          <a:stretch/>
        </p:blipFill>
        <p:spPr>
          <a:xfrm>
            <a:off x="0" y="0"/>
            <a:ext cx="45720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0610a46d8db248029b9c31ae6bb59e76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"/>
          <p:cNvSpPr/>
          <p:nvPr/>
        </p:nvSpPr>
        <p:spPr>
          <a:xfrm>
            <a:off x="250920" y="198900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小木偶委屈极了！可是有什么办法呢？老木匠只给了他一种表情，那就是笑！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692280"/>
            <a:ext cx="84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</a:rPr>
              <a:t>小木偶的心情怎么样？</a:t>
            </a:r>
            <a:endParaRPr b="1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200511140435467725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0" y="292428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小兔子温柔地问：“你怎么啦？”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5508720" y="1844640"/>
            <a:ext cx="36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脑袋疼。小木偶抬起头，笑嘻嘻地回答。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0" y="1125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“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嘻嘻。装得一点儿都不像！你瞧，应该像我这样。”小兔子龇牙咧嘴地做了个痛苦的表情，蹦蹦跳跳地走开了。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"/>
          <p:cNvSpPr/>
          <p:nvPr/>
        </p:nvSpPr>
        <p:spPr>
          <a:xfrm>
            <a:off x="755640" y="2205000"/>
            <a:ext cx="43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老婆婆走过来：“小木头人，你病了吗？”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4211640" y="5516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脑袋很疼。”小木偶还是一副笑嘻嘻的表情。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900000" y="213372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“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真不像话，连小木头人都学着撒谎！“老婆婆嘟嘟囔囔地走开了。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小兔子、老婆婆都不相信它，它的心情是怎么样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3213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伤心、难过，但又哭不出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0022_j9aBduaJ9Asr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3"/>
          <p:cNvSpPr/>
          <p:nvPr/>
        </p:nvSpPr>
        <p:spPr>
          <a:xfrm>
            <a:off x="826920" y="544500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你头疼，是吗？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539640" y="515772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那是因为你很伤心，却不会哭。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4032360" y="12682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是，而且越来越疼了。”小木偶可怜巴巴地说。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3924360" y="134136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哇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——”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小木偶放声大哭起来。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250920" y="508464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小木偶，我把人类所有的表情都送给你。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492360" y="112536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现在，小木偶会哭，会笑，会生气，会着急，也会向别人表示同情和关心了。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35889"/>
          <p:cNvPicPr/>
          <p:nvPr/>
        </p:nvPicPr>
        <p:blipFill>
          <a:blip r:embed="rId1"/>
          <a:srcRect l="0" t="0" r="196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5219640" y="1197000"/>
            <a:ext cx="35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老木匠说得没错，笑是很重要的。不过，要是只会笑，那可是远远不够的。</a:t>
            </a:r>
            <a:endParaRPr b="1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4788000" y="465300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你体会到了什么？ 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"/>
          <p:cNvSpPr/>
          <p:nvPr/>
        </p:nvSpPr>
        <p:spPr>
          <a:xfrm>
            <a:off x="611280" y="1197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在生活中，笑是很重要的，是非常美好的，谁要是不会笑，就无法体验生活的快乐。但生活是复杂的，除了一些高兴的事之外，还有一些伤心的事，不同的事情会引起我们不同的情感态度，要用我们的真情、用不同的方式去体验生活，面对生活。 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3"/>
          <p:cNvSpPr/>
          <p:nvPr/>
        </p:nvSpPr>
        <p:spPr>
          <a:xfrm>
            <a:off x="230760" y="2014560"/>
            <a:ext cx="33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4074120" y="1727280"/>
            <a:ext cx="134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  <a:ea typeface="华文琥珀"/>
              </a:rPr>
              <a:t>       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琥珀"/>
              </a:rPr>
              <a:t>老木匠说得没错，笑是很重要的。</a:t>
            </a:r>
            <a:endParaRPr b="1" lang="en-US" sz="36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琥珀"/>
              </a:rPr>
              <a:t>不过，要是只会笑，那可是远远不够的。</a:t>
            </a:r>
            <a:endParaRPr b="1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360截图201209262033478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>
            <a:off x="0" y="0"/>
            <a:ext cx="42847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老木匠拿起他的神奇雕刻刀，在小木偶的脸上添了一个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笑嘻嘻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表情。</a:t>
            </a: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5" descr="161428263775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6"/>
          <p:cNvSpPr/>
          <p:nvPr/>
        </p:nvSpPr>
        <p:spPr>
          <a:xfrm>
            <a:off x="5076720" y="907920"/>
            <a:ext cx="4067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穿警服的熊看看小红狐，小红狐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满脸的</a:t>
            </a: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愤怒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；再看看小木偶，小木偶一副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笑嘻嘻</a:t>
            </a: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的表情。</a:t>
            </a: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2009817224826591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320cd372ba52c65e8601b0c8"/>
          <p:cNvPicPr/>
          <p:nvPr/>
        </p:nvPicPr>
        <p:blipFill>
          <a:blip r:embed="rId2"/>
          <a:stretch/>
        </p:blipFill>
        <p:spPr>
          <a:xfrm>
            <a:off x="0" y="3141720"/>
            <a:ext cx="4572000" cy="3716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2009020908353326230"/>
          <p:cNvPicPr/>
          <p:nvPr/>
        </p:nvPicPr>
        <p:blipFill>
          <a:blip r:embed="rId3"/>
          <a:stretch/>
        </p:blipFill>
        <p:spPr>
          <a:xfrm>
            <a:off x="4284720" y="0"/>
            <a:ext cx="485928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5"/>
          <p:cNvSpPr/>
          <p:nvPr/>
        </p:nvSpPr>
        <p:spPr>
          <a:xfrm>
            <a:off x="755640" y="620640"/>
            <a:ext cx="304920" cy="51818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5000 h 5181840"/>
              <a:gd name="textAreaBottom" fmla="*/ 5046840 h 518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2340000" y="62064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木偶只会笑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1116000" y="364500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潮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19" name="AutoShape 45"/>
          <p:cNvSpPr/>
          <p:nvPr/>
        </p:nvSpPr>
        <p:spPr>
          <a:xfrm>
            <a:off x="2050920" y="1916280"/>
            <a:ext cx="287640" cy="1157040"/>
          </a:xfrm>
          <a:custGeom>
            <a:avLst/>
            <a:gdLst>
              <a:gd name="textAreaLeft" fmla="*/ 183960 w 287640"/>
              <a:gd name="textAreaRight" fmla="*/ 288000 w 287640"/>
              <a:gd name="textAreaTop" fmla="*/ 29880 h 1157040"/>
              <a:gd name="textAreaBottom" fmla="*/ 1127160 h 115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20" name="AutoShape 49"/>
          <p:cNvSpPr/>
          <p:nvPr/>
        </p:nvSpPr>
        <p:spPr>
          <a:xfrm>
            <a:off x="5867280" y="1916280"/>
            <a:ext cx="152640" cy="1218960"/>
          </a:xfrm>
          <a:custGeom>
            <a:avLst/>
            <a:gdLst>
              <a:gd name="textAreaLeft" fmla="*/ 0 w 152640"/>
              <a:gd name="textAreaRight" fmla="*/ 55080 w 15264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21" name="Rectangle 50"/>
          <p:cNvSpPr/>
          <p:nvPr/>
        </p:nvSpPr>
        <p:spPr>
          <a:xfrm>
            <a:off x="2988720" y="15573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木偶被熊警官冤枉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22" name="Rectangle 57"/>
          <p:cNvSpPr/>
          <p:nvPr/>
        </p:nvSpPr>
        <p:spPr>
          <a:xfrm>
            <a:off x="6302160" y="198900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为它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只会笑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23" name="Rectangle 59"/>
          <p:cNvSpPr/>
          <p:nvPr/>
        </p:nvSpPr>
        <p:spPr>
          <a:xfrm>
            <a:off x="2195640" y="364500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女巫赋予小木偶所有的表情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24" name="AutoShape 61"/>
          <p:cNvSpPr/>
          <p:nvPr/>
        </p:nvSpPr>
        <p:spPr>
          <a:xfrm rot="10800000">
            <a:off x="7524360" y="549000"/>
            <a:ext cx="576360" cy="5181480"/>
          </a:xfrm>
          <a:custGeom>
            <a:avLst/>
            <a:gdLst>
              <a:gd name="textAreaLeft" fmla="*/ 368280 w 576360"/>
              <a:gd name="textAreaRight" fmla="*/ 576720 w 57636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25" name="Text Box 62"/>
          <p:cNvSpPr/>
          <p:nvPr/>
        </p:nvSpPr>
        <p:spPr>
          <a:xfrm>
            <a:off x="2988720" y="27813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木偶被老婆婆误解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26" name="Text Box 65"/>
          <p:cNvSpPr/>
          <p:nvPr/>
        </p:nvSpPr>
        <p:spPr>
          <a:xfrm>
            <a:off x="7750080" y="1628640"/>
            <a:ext cx="103356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只会笑是永远不够的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27" name="Text Box 66"/>
          <p:cNvSpPr/>
          <p:nvPr/>
        </p:nvSpPr>
        <p:spPr>
          <a:xfrm>
            <a:off x="5400" y="1171440"/>
            <a:ext cx="789840" cy="42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木偶的故事</a:t>
            </a:r>
            <a:endParaRPr b="1" lang="en-US" sz="4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28" name="Text Box 70"/>
          <p:cNvSpPr/>
          <p:nvPr/>
        </p:nvSpPr>
        <p:spPr>
          <a:xfrm>
            <a:off x="3132000" y="479736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小木偶终于获得了真正的快乐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29" name="Text Box 71"/>
          <p:cNvSpPr/>
          <p:nvPr/>
        </p:nvSpPr>
        <p:spPr>
          <a:xfrm>
            <a:off x="126144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发展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30" name="Text Box 72"/>
          <p:cNvSpPr/>
          <p:nvPr/>
        </p:nvSpPr>
        <p:spPr>
          <a:xfrm>
            <a:off x="2340000" y="220500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木偶被小白兔怀疑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31" name="Text Box 73"/>
          <p:cNvSpPr/>
          <p:nvPr/>
        </p:nvSpPr>
        <p:spPr>
          <a:xfrm>
            <a:off x="1042920" y="479736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局：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32" name="Text Box 74"/>
          <p:cNvSpPr/>
          <p:nvPr/>
        </p:nvSpPr>
        <p:spPr>
          <a:xfrm>
            <a:off x="1116000" y="62064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开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3"/>
          <p:cNvSpPr/>
          <p:nvPr/>
        </p:nvSpPr>
        <p:spPr>
          <a:xfrm>
            <a:off x="230760" y="2014560"/>
            <a:ext cx="33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4074120" y="1727280"/>
            <a:ext cx="134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  <a:ea typeface="华文琥珀"/>
              </a:rPr>
              <a:t>       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琥珀"/>
              </a:rPr>
              <a:t>老木匠说得没错，笑是很重要的。</a:t>
            </a:r>
            <a:endParaRPr b="1" lang="en-US" sz="36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琥珀"/>
              </a:rPr>
              <a:t>不过，要是只会笑，那可是远远不够的。</a:t>
            </a:r>
            <a:endParaRPr b="1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3"/>
          <p:cNvSpPr/>
          <p:nvPr/>
        </p:nvSpPr>
        <p:spPr>
          <a:xfrm>
            <a:off x="230760" y="2014560"/>
            <a:ext cx="33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978200" y="1727280"/>
            <a:ext cx="5511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  <a:ea typeface="华文琥珀"/>
              </a:rPr>
              <a:t>  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琥珀"/>
              </a:rPr>
              <a:t>因为我们的生活不仅有快乐的日子，</a:t>
            </a:r>
            <a:endParaRPr b="1" lang="en-US" sz="36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琥珀"/>
              </a:rPr>
              <a:t>还有（            ）的日子，所以只会笑，</a:t>
            </a:r>
            <a:endParaRPr b="1" lang="en-US" sz="36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琥珀"/>
              </a:rPr>
              <a:t>那可是远远不够的。</a:t>
            </a:r>
            <a:endParaRPr b="1" lang="en-US" sz="36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908000" y="285264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伤心</a:t>
            </a:r>
            <a:endParaRPr b="1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8" descr="111"/>
          <p:cNvPicPr/>
          <p:nvPr/>
        </p:nvPicPr>
        <p:blipFill>
          <a:blip r:embed="rId1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noddy1"/>
          <p:cNvPicPr/>
          <p:nvPr/>
        </p:nvPicPr>
        <p:blipFill>
          <a:blip r:embed="rId2"/>
          <a:stretch/>
        </p:blipFill>
        <p:spPr>
          <a:xfrm>
            <a:off x="2916360" y="4508640"/>
            <a:ext cx="1623960" cy="2349360"/>
          </a:xfrm>
          <a:prstGeom prst="rect">
            <a:avLst/>
          </a:prstGeom>
          <a:ln w="0">
            <a:noFill/>
          </a:ln>
        </p:spPr>
      </p:pic>
      <p:sp>
        <p:nvSpPr>
          <p:cNvPr id="240" name="WordArt 10"/>
          <p:cNvSpPr txBox="1"/>
          <p:nvPr/>
        </p:nvSpPr>
        <p:spPr>
          <a:xfrm>
            <a:off x="-181080" y="189000"/>
            <a:ext cx="8382240" cy="15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楷体_GB2312"/>
              </a:rPr>
              <a:t>在小木偶身上，</a:t>
            </a:r>
            <a:endParaRPr b="1" lang="en-US" sz="6000" spc="1" strike="noStrike">
              <a:ln w="255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楷体_GB2312"/>
              </a:rPr>
              <a:t>后来又会发生什么事呢？</a:t>
            </a:r>
            <a:endParaRPr b="1" lang="en-US" sz="6000" spc="1" strike="noStrike">
              <a:ln w="255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楷体_GB2312"/>
              <a:ea typeface="楷体_GB2312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1549440" y="2781360"/>
            <a:ext cx="53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小木偶拥有了所有的表情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他向警察局走去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……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5" descr="619TcHaWz7L"/>
          <p:cNvPicPr/>
          <p:nvPr/>
        </p:nvPicPr>
        <p:blipFill>
          <a:blip r:embed="rId1"/>
          <a:stretch/>
        </p:blipFill>
        <p:spPr>
          <a:xfrm>
            <a:off x="2190600" y="10476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9" descr="2009817224826591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7"/>
          <p:cNvSpPr/>
          <p:nvPr/>
        </p:nvSpPr>
        <p:spPr>
          <a:xfrm>
            <a:off x="611280" y="105264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只会笑是永远不够的，要用我们的真情、用不同的方式去体验生活、面对生活。</a:t>
            </a:r>
            <a:endParaRPr b="1" lang="en-US" sz="5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619200" y="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明白道理：</a:t>
            </a: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8" descr="2009817224826591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木"/>
          <p:cNvPicPr/>
          <p:nvPr/>
        </p:nvPicPr>
        <p:blipFill>
          <a:blip r:embed="rId2"/>
          <a:stretch/>
        </p:blipFill>
        <p:spPr>
          <a:xfrm>
            <a:off x="6300720" y="3505320"/>
            <a:ext cx="2843280" cy="3352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偶"/>
          <p:cNvPicPr/>
          <p:nvPr/>
        </p:nvPicPr>
        <p:blipFill>
          <a:blip r:embed="rId3"/>
          <a:stretch/>
        </p:blipFill>
        <p:spPr>
          <a:xfrm>
            <a:off x="0" y="2637000"/>
            <a:ext cx="3351240" cy="4221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gk"/>
          <p:cNvPicPr/>
          <p:nvPr/>
        </p:nvPicPr>
        <p:blipFill>
          <a:blip r:embed="rId4"/>
          <a:stretch/>
        </p:blipFill>
        <p:spPr>
          <a:xfrm>
            <a:off x="3780000" y="1844640"/>
            <a:ext cx="2307960" cy="26877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857320" y="3805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演一演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7" descr="2009817224826591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续编拓展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685800" y="227016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</a:rPr>
              <a:t>*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假如小木偶来到你身边，你想对他说些什么？</a:t>
            </a:r>
            <a:endParaRPr b="1" lang="en-US" sz="4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685800" y="396252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</a:rPr>
              <a:t>*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在小木偶的身上后来又发生了什么事？（续编故事）</a:t>
            </a:r>
            <a:endParaRPr b="1" lang="en-US" sz="40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0022_j9aBduaJ9As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3"/>
          <p:cNvSpPr/>
          <p:nvPr/>
        </p:nvSpPr>
        <p:spPr>
          <a:xfrm>
            <a:off x="0" y="1413000"/>
            <a:ext cx="88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小木偶大步走在绿森林里。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它边走边想：穿过这片森林，会看见什么呢？是大海，是草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原，还是另外一片绿森林？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小木偶正想得出神，树丛里突然蹿出个小妖怪！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小妖怪长得皱巴巴的，活像一块木头疙瘩。它一手叉着腰，一手指着小木偶大叫：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喂！那块木头！站住！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”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我不是一块木头，我是小木偶！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小木偶生气地回答。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不是木头？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小妖怪很疑惑地凑到小木偶跟前，仔细地闻了一会儿。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你不过是一段普通的木头！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小妖怪大声宣布，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我是从小吃木头长大的，吃了整整</a:t>
            </a:r>
            <a:r>
              <a:rPr b="1" lang="en-US" sz="2400" spc="-1" strike="noStrike">
                <a:solidFill>
                  <a:srgbClr val="ff0066"/>
                </a:solidFill>
                <a:latin typeface="黑体"/>
                <a:ea typeface="黑体"/>
              </a:rPr>
              <a:t>300</a:t>
            </a: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年！不会弄错的！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”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小木偶又生气又着急，它想：我一定得向这个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小妖怪证明，我不是一段普通的木头！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57" name="WordArt 4"/>
          <p:cNvSpPr txBox="1"/>
          <p:nvPr/>
        </p:nvSpPr>
        <p:spPr>
          <a:xfrm>
            <a:off x="3348000" y="981000"/>
            <a:ext cx="3960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我不是一段普通的木头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58" name="WordArt 5"/>
          <p:cNvSpPr txBox="1"/>
          <p:nvPr/>
        </p:nvSpPr>
        <p:spPr>
          <a:xfrm rot="2118600">
            <a:off x="7092720" y="189000"/>
            <a:ext cx="18666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112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补充阅读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112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0022_j9aBduaJ9As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3"/>
          <p:cNvSpPr/>
          <p:nvPr/>
        </p:nvSpPr>
        <p:spPr>
          <a:xfrm>
            <a:off x="0" y="907920"/>
            <a:ext cx="88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“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我会说话。这证明我根本不是一段普通的木头！”小木偶说。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“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这不能证明！”小妖怪大声地反驳它，“你不过是被施了魔法！这没有什么了不起的！你等着瞧！”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小妖怪找来一段破木头，然后从口袋里掏出一根歪歪扭扭的魔杖。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“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你看仔细了。”小妖怪边说边用魔杖在破木头上点了一下。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那木头马上长出一张大嘴巴，神气活现地说起话来：“你和我一样！不过是一段普通的木头！普通的木头！木头！木头！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……”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小木偶气坏了，它大叫：“我还会做算术题、背乘法表！一 一得一、一二得二、二二得四、二三得六、二四得八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……”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小木偶一口气把乘法表从头背到尾。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但是小妖怪还是说：“这没什么了不起！”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小妖怪魔杖一点，那段破木头就怪声怪气地念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着：“春眠不觉晓，肚子咕咕叫，吃块大木头，味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道真是好！”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8fef7f14-cfaf-42e5-b8af-3b5994dfb8b1"/>
          <p:cNvPicPr/>
          <p:nvPr/>
        </p:nvPicPr>
        <p:blipFill>
          <a:blip r:embed="rId1"/>
          <a:stretch/>
        </p:blipFill>
        <p:spPr>
          <a:xfrm>
            <a:off x="0" y="277920"/>
            <a:ext cx="9144000" cy="65800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866160" y="26028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笑嘻嘻的小木偶</a:t>
            </a: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0022_j9aBduaJ9As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3"/>
          <p:cNvSpPr/>
          <p:nvPr/>
        </p:nvSpPr>
        <p:spPr>
          <a:xfrm>
            <a:off x="0" y="907920"/>
            <a:ext cx="88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“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瞧见了吧，它连诗都会念！”小妖怪得意扬扬地说，“可它和你一样，不过是一段被施了魔法的破木头！”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小妖怪说完，就举起那块木头，“咯嘣咯嘣”地把它吃下肚，好像是在吃一块棒冰。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小木偶的心怦怦地跳得厉害。要是不能证明它不是一段普通的木头，它肯定会被吃掉的！它还是一个崭新的小木偶，它不想死！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可是越着急，小木偶越觉得脑袋里面空空的，一句话也想不出来。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“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哈哈！你还是乖乖地让我吃掉吧，你的味道肯定很不错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……”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小妖怪一步一步地向小木偶逼近。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就在这时候，它们听到了一声尖叫：“救命！”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接着，一只粉红的小兔子拼命地向它们这边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跑过来。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“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救救我！”小兔子哭着说，“后面有妖怪追我！”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0022_j9aBduaJ9As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3"/>
          <p:cNvSpPr/>
          <p:nvPr/>
        </p:nvSpPr>
        <p:spPr>
          <a:xfrm>
            <a:off x="0" y="8366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小木偶把粉红小兔子抱起来，它感觉到小兔子在它怀里拼命地发抖。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“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别怕！”小木偶安慰小兔子，“我会保护你的！”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吃木头的小妖怪很惊奇地看着小木偶。因为小木偶好像已经忘了它就要被一个妖怪吃掉了。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“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把那只兔子给我！”一个头上长着蓝角的小妖怪出现在它们面前。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“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哈啰！是你呀，老朋友！”吃木头的小妖怪很高兴地说。看来，这两个小妖怪互相认识。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蓝角小妖怪只是板着脸点了点头，然后就转向了小木偶：“把那只兔子给我！我追了它好长时间了！”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小木偶害怕得两腿发软，可它勇敢地说：“不给！这是我的小兔子！凭什么给你！”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“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它是你的？”蓝角小妖怪很怀疑地盯着小木偶，“你怎么能证明它是你的？”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“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我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……”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小木偶不知道该怎么回答。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0022_j9aBduaJ9As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3"/>
          <p:cNvSpPr/>
          <p:nvPr/>
        </p:nvSpPr>
        <p:spPr>
          <a:xfrm>
            <a:off x="0" y="90792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“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我能证明。”吃木头的小妖怪突然说，“难道你还不相信一个老朋友吗？”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 “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真扫兴！”蓝角小妖怪很不高兴地走开了。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小木偶看着蓝角小妖怪的背影，有点儿发愣。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 “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它只吃没人要的东西，就像我只吃木头一样。”吃木头的小妖怪向小木偶解释。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小木偶这才想起来，它就要被吃木头的小妖怪吃掉了。可是吃木头的小妖怪很和气地说：“我不会吃你的。我现在相信你不是一段普通的木头了。你有一颗真正的心。木头是没有心的，哪怕是被施了魔法。”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小木偶开心地笑了。它终于证明了它自己。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只要有一颗真正的心，哪怕你的身体是木头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做的也没有关系。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20081110121041232_2"/>
          <p:cNvPicPr/>
          <p:nvPr/>
        </p:nvPicPr>
        <p:blipFill>
          <a:blip r:embed="rId1"/>
          <a:stretch/>
        </p:blipFill>
        <p:spPr>
          <a:xfrm>
            <a:off x="0" y="0"/>
            <a:ext cx="9144000" cy="67118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133200" y="11880"/>
            <a:ext cx="911520" cy="25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小木偶</a:t>
            </a: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20101226184840591"/>
          <p:cNvPicPr/>
          <p:nvPr/>
        </p:nvPicPr>
        <p:blipFill>
          <a:blip r:embed="rId1"/>
          <a:stretch/>
        </p:blipFill>
        <p:spPr>
          <a:xfrm>
            <a:off x="0" y="0"/>
            <a:ext cx="4140360" cy="4140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20120121171538304"/>
          <p:cNvPicPr/>
          <p:nvPr/>
        </p:nvPicPr>
        <p:blipFill>
          <a:blip r:embed="rId2"/>
          <a:stretch/>
        </p:blipFill>
        <p:spPr>
          <a:xfrm>
            <a:off x="4500720" y="2612880"/>
            <a:ext cx="464328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95280" y="1628640"/>
            <a:ext cx="831708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吕丽娜，出版童话书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小木偶山米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故事点心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再见老蓬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等，作品入选小学课本及日本中文教材。短篇小说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再见，小蓝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刊登于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儿童文学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》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2010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年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月号下册。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小木偶故事之一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——《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只有笑是远远不够的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》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小木偶故事之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——《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我不是一段普通的木头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》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小木偶故事之三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——《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我喜欢做我自己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》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11" name="WordArt 3"/>
          <p:cNvSpPr txBox="1"/>
          <p:nvPr/>
        </p:nvSpPr>
        <p:spPr>
          <a:xfrm>
            <a:off x="611280" y="476280"/>
            <a:ext cx="230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作者简介</a:t>
            </a:r>
            <a:endParaRPr b="1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图片4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图片3"/>
          <p:cNvPicPr/>
          <p:nvPr/>
        </p:nvPicPr>
        <p:blipFill>
          <a:blip r:embed="rId2"/>
          <a:stretch/>
        </p:blipFill>
        <p:spPr>
          <a:xfrm>
            <a:off x="6773760" y="4700520"/>
            <a:ext cx="2911680" cy="21574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900000" y="1628640"/>
            <a:ext cx="439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读课题，你想知道什么？ 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619280" y="3068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课文讲了小木偶的什么故事？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1" descr="2009817224826591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0" y="620640"/>
            <a:ext cx="8964720" cy="55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课文先写了老木匠做了一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            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1" lang="en-US" sz="36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并在它的脸上添上了（             ）的表情。</a:t>
            </a:r>
            <a:endParaRPr b="1" lang="en-US" sz="36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老木匠以为从此小木偶就会永远（       ）；</a:t>
            </a:r>
            <a:endParaRPr b="1" lang="en-US" sz="36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接着写了小木偶在生活中遇到了一系列</a:t>
            </a:r>
            <a:endParaRPr b="1" lang="en-US" sz="36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               ），最后在（                ）的帮助下，有了（                        ）。 </a:t>
            </a:r>
            <a:endParaRPr b="1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626160" y="907920"/>
            <a:ext cx="251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小木偶</a:t>
            </a:r>
            <a:endParaRPr b="1" lang="en-US" sz="4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4700520" y="1773360"/>
            <a:ext cx="243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笑嘻嘻</a:t>
            </a:r>
            <a:endParaRPr b="1" lang="en-US" sz="4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7130880" y="2637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快乐</a:t>
            </a:r>
            <a:endParaRPr b="1" lang="en-US" sz="4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793800" y="458136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遭遇</a:t>
            </a:r>
            <a:endParaRPr b="1" lang="en-US" sz="4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5240160" y="4581360"/>
            <a:ext cx="22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小巫女</a:t>
            </a:r>
            <a:endParaRPr b="1" lang="en-US" sz="4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2843280" y="5373720"/>
            <a:ext cx="37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所有的表情</a:t>
            </a:r>
            <a:endParaRPr b="1" lang="en-US" sz="4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539640" y="-157320"/>
            <a:ext cx="46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我会说：</a:t>
            </a:r>
            <a:endParaRPr b="1" lang="en-US" sz="60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06:53:57Z</dcterms:created>
  <dc:creator>为您服务教育网http://www.wsbedu.com</dc:creator>
  <dc:description/>
  <dc:language>en-US</dc:language>
  <cp:lastModifiedBy>Sky123.Org</cp:lastModifiedBy>
  <dcterms:modified xsi:type="dcterms:W3CDTF">2014-09-26T07:34:04Z</dcterms:modified>
  <cp:revision>87</cp:revision>
  <dc:subject/>
  <dc:title>PowerPoint 演示文稿</dc:title>
</cp:coreProperties>
</file>